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28.gif" ContentType="image/gif"/>
  <Override PartName="/ppt/media/image13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32E-0EEA-4D3E-98A6-1A3D534A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226-775E-4468-BCBA-97377BD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E48-E00B-4031-94F0-9509BA68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932-623A-4802-B339-44E01A26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0F8-F571-40D2-A86D-6DE20C84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F05-E1A6-4B0C-9757-D45FCBE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826-9C97-4878-B459-EF2E639B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49A-581A-4454-9ED0-13164BAF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5AC-BAF8-46D3-85BE-97E35838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44C-37D6-4741-9E7C-85B46B1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565-DADF-415A-955A-7AA42FA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534-CAEA-4A83-96A9-0FF8680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763-FECB-4E27-9882-998C252220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seafloorspreadin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pubs.usgs.gov/gip/dynamic/unanswered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outerlayer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outerlayer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Liz LaRosa for use with my 5</a:t>
            </a:r>
            <a:r>
              <a:rPr b="0" lang="en-US" sz="17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Grade Science Class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ddleschoolscience.com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2009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indiana.edu/~g103/G103/week11/platefit1.jpg"/>
          <p:cNvPicPr/>
          <p:nvPr/>
        </p:nvPicPr>
        <p:blipFill>
          <a:blip r:embed="rId2"/>
          <a:stretch/>
        </p:blipFill>
        <p:spPr>
          <a:xfrm>
            <a:off x="838080" y="228600"/>
            <a:ext cx="75438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Floor Sp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ridge winding gif"/>
          <p:cNvPicPr/>
          <p:nvPr/>
        </p:nvPicPr>
        <p:blipFill>
          <a:blip r:embed="rId1"/>
          <a:stretch/>
        </p:blipFill>
        <p:spPr>
          <a:xfrm>
            <a:off x="530280" y="1143000"/>
            <a:ext cx="8308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Floor Sp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57140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 Ocean Ridges – underwater mountain chains that run through the Earth’s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ma rises to the surface and solidifies and new crus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er Crust is pu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ther away from the 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members.enchantedlearning.com/sgifs/Seafloorspreading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352680"/>
            <a:ext cx="31096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lates M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http://pubs.usgs.gov/gip/dynamic/graphics/Fig32.gif"/>
          <p:cNvPicPr/>
          <p:nvPr/>
        </p:nvPicPr>
        <p:blipFill>
          <a:blip r:embed="rId1"/>
          <a:stretch/>
        </p:blipFill>
        <p:spPr>
          <a:xfrm>
            <a:off x="304920" y="1371600"/>
            <a:ext cx="586260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usgs.gov/gip/dynamic/graphics/Fig33.gif"/>
          <p:cNvPicPr/>
          <p:nvPr/>
        </p:nvPicPr>
        <p:blipFill>
          <a:blip r:embed="rId2"/>
          <a:stretch/>
        </p:blipFill>
        <p:spPr>
          <a:xfrm>
            <a:off x="6400800" y="190512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828800" y="6183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pubs.usgs.gov/gip/dynamic/unanswered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t Types of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pubs.usgs.gov/gip/dynamic/graphics/Fig13.gif"/>
          <p:cNvPicPr/>
          <p:nvPr/>
        </p:nvPicPr>
        <p:blipFill>
          <a:blip r:embed="rId1"/>
          <a:stretch/>
        </p:blipFill>
        <p:spPr>
          <a:xfrm>
            <a:off x="334800" y="1523880"/>
            <a:ext cx="8620200" cy="4772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676520" y="64008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usgs.gov/gip/dynamic/understanding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ergent Boundary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abian and African Pl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3520" y="1357200"/>
            <a:ext cx="8381880" cy="504360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 rot="19885800">
            <a:off x="4460400" y="3043080"/>
            <a:ext cx="457200" cy="609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1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5"/>
          <p:cNvSpPr/>
          <p:nvPr/>
        </p:nvSpPr>
        <p:spPr>
          <a:xfrm rot="8604000">
            <a:off x="2574720" y="388584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75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2"/>
          <a:stretch/>
        </p:blipFill>
        <p:spPr>
          <a:xfrm>
            <a:off x="2664000" y="2548080"/>
            <a:ext cx="4017960" cy="45072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3"/>
          <a:stretch/>
        </p:blipFill>
        <p:spPr>
          <a:xfrm>
            <a:off x="530280" y="4986360"/>
            <a:ext cx="4017960" cy="450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8" descr=""/>
          <p:cNvPicPr/>
          <p:nvPr/>
        </p:nvPicPr>
        <p:blipFill>
          <a:blip r:embed="rId4"/>
          <a:stretch/>
        </p:blipFill>
        <p:spPr>
          <a:xfrm>
            <a:off x="3529080" y="4595760"/>
            <a:ext cx="1360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ergent Boundary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cel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iverging Plate Boundaries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5133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981080" y="6400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usgs.gov/gip/dynamic/understanding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 -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geology.com/nsta/divergent-boundary-oceanic.gif"/>
          <p:cNvPicPr/>
          <p:nvPr/>
        </p:nvPicPr>
        <p:blipFill>
          <a:blip r:embed="rId1"/>
          <a:stretch/>
        </p:blipFill>
        <p:spPr>
          <a:xfrm>
            <a:off x="563400" y="2460600"/>
            <a:ext cx="8047080" cy="2873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905120" y="63244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ology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Boundary - Contin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geology.com/nsta/divergent-boundary-continental.gif"/>
          <p:cNvPicPr/>
          <p:nvPr/>
        </p:nvPicPr>
        <p:blipFill>
          <a:blip r:embed="rId1"/>
          <a:stretch/>
        </p:blipFill>
        <p:spPr>
          <a:xfrm>
            <a:off x="674640" y="2446200"/>
            <a:ext cx="7707240" cy="3192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752480" y="6335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olog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y – Indian and Eurasian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313240"/>
          </a:xfrm>
          <a:prstGeom prst="rect">
            <a:avLst/>
          </a:prstGeom>
          <a:ln w="0">
            <a:noFill/>
          </a:ln>
        </p:spPr>
      </p:pic>
      <p:sp>
        <p:nvSpPr>
          <p:cNvPr id="97" name="Right Arrow 3"/>
          <p:cNvSpPr/>
          <p:nvPr/>
        </p:nvSpPr>
        <p:spPr>
          <a:xfrm rot="18427200">
            <a:off x="3774960" y="350064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9374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ight Arrow 4"/>
          <p:cNvSpPr/>
          <p:nvPr/>
        </p:nvSpPr>
        <p:spPr>
          <a:xfrm rot="7749600">
            <a:off x="4876200" y="212220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844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5" descr=""/>
          <p:cNvPicPr/>
          <p:nvPr/>
        </p:nvPicPr>
        <p:blipFill>
          <a:blip r:embed="rId2"/>
          <a:stretch/>
        </p:blipFill>
        <p:spPr>
          <a:xfrm>
            <a:off x="1974960" y="4260960"/>
            <a:ext cx="3200400" cy="6458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6" descr=""/>
          <p:cNvPicPr/>
          <p:nvPr/>
        </p:nvPicPr>
        <p:blipFill>
          <a:blip r:embed="rId3"/>
          <a:stretch/>
        </p:blipFill>
        <p:spPr>
          <a:xfrm>
            <a:off x="4035600" y="1427040"/>
            <a:ext cx="3200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gent Boundary – Oceanic &amp; Contin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geology.com/nsta/convergent-boundary-oceanic-continental.gif"/>
          <p:cNvPicPr/>
          <p:nvPr/>
        </p:nvPicPr>
        <p:blipFill>
          <a:blip r:embed="rId1"/>
          <a:stretch/>
        </p:blipFill>
        <p:spPr>
          <a:xfrm>
            <a:off x="2286000" y="91440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Oceanic-Continental Converging Plates"/>
          <p:cNvPicPr/>
          <p:nvPr/>
        </p:nvPicPr>
        <p:blipFill>
          <a:blip r:embed="rId2"/>
          <a:stretch/>
        </p:blipFill>
        <p:spPr>
          <a:xfrm>
            <a:off x="2209680" y="3809880"/>
            <a:ext cx="4572000" cy="2694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1905120" y="6551640"/>
            <a:ext cx="556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th’s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members.enchantedlearning.com/egifs/Earthscrustsm.GIF"/>
          <p:cNvPicPr/>
          <p:nvPr/>
        </p:nvPicPr>
        <p:blipFill>
          <a:blip r:embed="rId1"/>
          <a:stretch/>
        </p:blipFill>
        <p:spPr>
          <a:xfrm>
            <a:off x="304920" y="1752480"/>
            <a:ext cx="4973400" cy="3891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5410080" y="1447920"/>
            <a:ext cx="297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arth's rocky outer crust solidified billions of years ago, soon after the Earth fo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crust is not a solid shell; it is broken up into huge, thick plates that drift atop the soft, underlying man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y – Oceanic &amp; Oce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geology.com/nsta/convergent-boundary-oceanic-oceanic.gif"/>
          <p:cNvPicPr/>
          <p:nvPr/>
        </p:nvPicPr>
        <p:blipFill>
          <a:blip r:embed="rId1"/>
          <a:stretch/>
        </p:blipFill>
        <p:spPr>
          <a:xfrm>
            <a:off x="1752480" y="966960"/>
            <a:ext cx="5724720" cy="23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Oceanic-Oceanic Converging Plates"/>
          <p:cNvPicPr/>
          <p:nvPr/>
        </p:nvPicPr>
        <p:blipFill>
          <a:blip r:embed="rId2"/>
          <a:stretch/>
        </p:blipFill>
        <p:spPr>
          <a:xfrm>
            <a:off x="1828800" y="3505320"/>
            <a:ext cx="5257800" cy="3098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1752480" y="6627960"/>
            <a:ext cx="55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5" descr=""/>
          <p:cNvPicPr/>
          <p:nvPr/>
        </p:nvPicPr>
        <p:blipFill>
          <a:blip r:embed="rId3"/>
          <a:stretch/>
        </p:blipFill>
        <p:spPr>
          <a:xfrm>
            <a:off x="5608800" y="2944800"/>
            <a:ext cx="3097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ies - Contin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geology.com/nsta/convergent-boundary.gif"/>
          <p:cNvPicPr/>
          <p:nvPr/>
        </p:nvPicPr>
        <p:blipFill>
          <a:blip r:embed="rId1"/>
          <a:stretch/>
        </p:blipFill>
        <p:spPr>
          <a:xfrm>
            <a:off x="1828800" y="1447920"/>
            <a:ext cx="5165640" cy="168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ontinental-Continental Converging Plates"/>
          <p:cNvPicPr/>
          <p:nvPr/>
        </p:nvPicPr>
        <p:blipFill>
          <a:blip r:embed="rId2"/>
          <a:stretch/>
        </p:blipFill>
        <p:spPr>
          <a:xfrm>
            <a:off x="1828800" y="3429000"/>
            <a:ext cx="510552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600200" y="6551640"/>
            <a:ext cx="55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orm Boundary – San Andreas 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http://geology.com/nsta/transform-boundary.gif"/>
          <p:cNvPicPr/>
          <p:nvPr/>
        </p:nvPicPr>
        <p:blipFill>
          <a:blip r:embed="rId1"/>
          <a:stretch/>
        </p:blipFill>
        <p:spPr>
          <a:xfrm>
            <a:off x="2436840" y="1600200"/>
            <a:ext cx="640224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27672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eolog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an Andreas fault gif"/>
          <p:cNvPicPr/>
          <p:nvPr/>
        </p:nvPicPr>
        <p:blipFill>
          <a:blip r:embed="rId2"/>
          <a:stretch/>
        </p:blipFill>
        <p:spPr>
          <a:xfrm>
            <a:off x="122400" y="1600200"/>
            <a:ext cx="2544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3 main layers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tectonic pl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Pang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ea-Floor sp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three different types of plate boundaries and one location on Earth for each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71800"/>
            <a:ext cx="678168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most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– 100 km th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Oxygen, Silicon, Alumi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members.enchantedlearning.com/ogifs/outerlayerseart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71600"/>
            <a:ext cx="4292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71760"/>
            <a:ext cx="3809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er of Earth between the crust and the 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ins most of the Earth’s m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 more magnesium and less aluminum and silicon than the c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denser than the c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members.enchantedlearning.com/ogifs/outerlayerseart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01800"/>
            <a:ext cx="44197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157140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w the mantle and to the center of th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d to be mostly Iron, smaller amounts of Nickel, almost no Oxygen, Silicon, Aluminum, or Magne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static.howstuffworks.com/gif/compass-core.gif"/>
          <p:cNvPicPr/>
          <p:nvPr/>
        </p:nvPicPr>
        <p:blipFill>
          <a:blip r:embed="rId1"/>
          <a:stretch/>
        </p:blipFill>
        <p:spPr>
          <a:xfrm>
            <a:off x="4648320" y="1519200"/>
            <a:ext cx="4267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nic 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Link to USGS home page"/>
          <p:cNvPicPr/>
          <p:nvPr/>
        </p:nvPicPr>
        <p:blipFill>
          <a:blip r:embed="rId1"/>
          <a:stretch/>
        </p:blipFill>
        <p:spPr>
          <a:xfrm>
            <a:off x="647640" y="1171440"/>
            <a:ext cx="80391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7176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– “tektonikos” of a bui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eces of the lithosphere that move a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late has a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 together like jigsaw puzz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 on top of mantle similar to ice cubes in a bowl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960480"/>
            <a:ext cx="24764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Continental Drift"/>
          <p:cNvPicPr/>
          <p:nvPr/>
        </p:nvPicPr>
        <p:blipFill>
          <a:blip r:embed="rId1"/>
          <a:stretch/>
        </p:blipFill>
        <p:spPr>
          <a:xfrm>
            <a:off x="609480" y="1542960"/>
            <a:ext cx="4953240" cy="4019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1219320" y="6248520"/>
            <a:ext cx="64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http://members.enchantedlearning.com/subjects/astronomy/planets/earth/Continent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5715000" y="1219320"/>
            <a:ext cx="304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lfred Wegener 190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ntinents were once a single land mass that drifted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ossils of the same plants and animals are found on different conti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alled this supercontinent Pangea, Greek for “all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45 M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plit again – Laurasia &amp; Gondwana 180 million years a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Pang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bs.usgs.gov/gip/dynamic/graphics/Fig4.gif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1:31:33Z</dcterms:created>
  <dc:creator>Liz</dc:creator>
  <dc:description/>
  <dc:language>en-US</dc:language>
  <cp:lastModifiedBy>drobbins</cp:lastModifiedBy>
  <dcterms:modified xsi:type="dcterms:W3CDTF">2012-02-03T17:09:49Z</dcterms:modified>
  <cp:revision>34</cp:revision>
  <dc:subject/>
  <dc:title>Plate Tectonics</dc:title>
</cp:coreProperties>
</file>